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png" ContentType="image/png"/>
  <Override PartName="/ppt/media/image9.png" ContentType="image/png"/>
  <Override PartName="/ppt/media/image7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8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25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98280" y="771120"/>
            <a:ext cx="5102280" cy="38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199120" cy="4593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2"/>
          </p:nvPr>
        </p:nvSpPr>
        <p:spPr>
          <a:xfrm>
            <a:off x="4022640" y="9723240"/>
            <a:ext cx="3068640" cy="502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126BE-BED5-4872-891A-B11079E292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B6DE5-D674-4771-A4C9-AE98998FAB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5751D-681F-41EF-9E0E-DE83F675C4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1E62E-DB8A-4145-AA74-2A26FA3DD7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BEE4A-E69F-419D-801A-03B323E029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6B33C-5866-45C7-B9D0-CF43221507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A8E69-48AD-45D7-BBCF-FD1E42E29B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FAC34-AA58-4BBF-A177-048C9A78A5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4D94C-6668-4583-9B42-A51B5C32AD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5D463-364B-4B6D-B888-345E2E913E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CF0A1-6597-4E90-87A2-EA86F16CF7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4E90C-B9BE-49DC-82E5-AC66ED0255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9DDAC-0716-47BE-9C5C-91884E624A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6007F-BBD6-4781-9187-8E6FC39AA5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A4003-D716-47E1-9DCA-DDAE623530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374C0-9805-4D5D-840C-C077613CBE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B4DB5-7D93-48C8-B86A-6FFC623DAE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17E07-2FD3-4AD0-AD45-EEE8971CEE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52238-D777-4B39-88BB-B032E54F1A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CA7DF-EDB3-4AFF-81FA-CD039EC697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D9490-F2FF-412E-BB81-6438D606F2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82A18-8DDC-44AE-878E-64172428F0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18FD8-7DF7-4B6E-861B-56BDC59F68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7C870-934B-4475-B44C-654B3429C4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45487-4264-4686-BA0A-39039B7EAC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F8CC5-3100-471E-9208-FD0BC869B5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5C5CE-CD3B-4697-BFB0-AB4670631B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B0DA4-206F-4CDF-8C45-E68D160A6F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CF51B-37EC-41C6-8611-9FED2721D2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47F81-9020-4D7F-A5DE-D49B29E61C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50142-CAD4-47A7-85A2-51BBC825C5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3A9C3-5DED-4DEC-8E2F-B48F1A9AE6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3602D-4D0E-44AE-948C-2399BA6FA8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425B1-6E58-4000-AC5F-F4EAFCA8B0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2228B-40D7-4987-904A-73ECE652BD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753CD-C523-442C-B98D-B39766B296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9093D-921C-4EBE-A7DF-41E6DEA057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FFC71-A675-435F-B25B-6B9A95726F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DC7D3-A255-45DE-AFF2-7D243F564E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0B0DE-57C8-4AF8-88DB-64987C3FDA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1E68E-951E-450D-858F-7B080CF5C6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DA1AC-01A8-455E-9CAE-B77D6DFD31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AA620-26A8-4E08-A3A2-255140A7E6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6EC5E-D51A-4D58-ABBE-D9F67D5558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FF54C-D6F1-49E9-AB7D-2D741411BA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F4011-AB9C-4909-B6B2-A92D7FE4BF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14FB4-A88A-461E-9DF8-92B7E5A91C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5DF04-3AE6-436C-AFFD-661E66F547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64C37-ACBA-471B-9B92-56404F1F62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64599-3E1E-4FA4-B81F-A41FAC0AF0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EDC78-9481-41F4-95E5-DAA3905C95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C72D2-61C9-4161-A5E1-4158A95FBD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D0C49-EFE8-406E-9744-935481B835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E370D-5957-4B9B-8774-5377902AB0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F6D5B-B656-41AC-A6FA-20C844B176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C079D-97F5-4596-A102-BD2A14BD22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5E63C-AB35-49B3-9132-FC64F9A7C6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25229-5D10-4035-8719-ECF55AE8C1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36085-CB2B-44FD-AD44-4EDE53EB32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D93D0-6ECE-4F13-ADA2-AA148A5B22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ECD6D-5488-4820-9293-72C8073B95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C7D6D-9523-48FD-9643-48A500439C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C5648-B97F-4F5E-BE9B-5E3E1DBA6C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E0FAE-2C46-4463-9B33-0CB0E07351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4688D-887E-4F77-A9EF-342E0A4144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F133F-E386-44FF-99B8-B61EC204F5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DB721-BFAB-4663-A7B4-F12B515B3F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98233-4DF6-42F2-BDFD-FA04D026BA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CD534-D9E8-4462-BB6D-284F151279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8B68E-F413-4BDE-A92F-0BDF574786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0B98E-82EF-471E-9DDB-DF941041EE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7A720-CB2E-4158-90C1-266135AC08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3902D-E544-4CF5-B031-AEEA2B2FE4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AFBB5-2A4D-44C1-9DA3-D03BB6317D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8B471-7498-4B0B-97C0-416FA9AEC3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12CF4-E335-40C0-8B9E-9D5EEC269F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D484C-A727-43C7-A166-2318BD822F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BA8E7-0E01-4611-B8A8-EAEDAD72C8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F4AEF-1674-4773-B897-C545F3B0F7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BC687-109B-4757-8E2B-5E86924077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8409D-04B1-42A9-9477-E6C4E82BF8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BB2FF-EEE2-4B87-AB32-97C06CFCFF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C0E27-AFCA-4656-A879-150AE5EFD0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86245-2D2E-48C5-8D67-72E67A6FD6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112A3-1A68-44FD-B0FF-E1B7A9C5BB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EF78B-4E9C-4E59-9508-ADEC7CCF70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944AD-3569-4BE6-9F32-796F9DD784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2E307-5646-4D46-AFCE-8433BCB5EC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10FB2-DEF7-47C3-A8F5-296D0903D2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4CE40-A4A1-4E92-80F6-963F3BFBC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77692-45D5-4F16-B83A-480590656C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780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104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92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780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104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F0AEA-4D84-46D1-AB6E-03349024C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59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62B18-5C3A-4D36-89B0-5CB1C1F02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8780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104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92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8780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104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9E8FB-E7BB-4F3C-AC04-0E0707824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04E4-3122-40CC-A000-4B29E7AF3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9B16A-6D91-4708-A66C-E0B8787F1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59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CB3E8-A3C6-4486-91D8-F4B301290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D7CB-38A1-4229-B5DF-2ADDECF2F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7D8F1-8A82-4DD5-8178-D7ECB21A1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1A452-441C-484F-8CB9-BC95AA95C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86760" y="6496200"/>
            <a:ext cx="906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AB05D-8AC8-4681-A0FD-4BF81B8A77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www.ida.liu.se/labs/pelab/modelica/OpenModelica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85800" y="56196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OpenModelica Eclipse Plugin and </a:t>
            </a:r>
            <a:br>
              <a:rPr sz="4800"/>
            </a:b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MetaModelica Exercis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1042920" y="3213000"/>
            <a:ext cx="712944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drian P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rebuchet MS"/>
              </a:rPr>
              <a:t>adrian.pop@liu.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ELAB/IDA/LIU,  2007-03-2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Last Updated 2011-09-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by Peter Fritzson and Martin Sjölu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68A8D-F10F-4361-89F3-FBDE11044FA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ose all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158F7-23D8-4901-84E8-307335448A8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 to Modelica Persp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A4F63-C657-437A-9012-7033060C96C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how the OpenModelica Console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CD85B-286E-4A73-BF3D-A3045C32BE3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0_simplesi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perform a simple simulation in the MDT Eclipse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ype or copy a simple model into an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Open the Eclipse view “OpenModelica consol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imulate with the simulate com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plot with the plot comm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Note: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following exercises you will no longer use the “OpenModelica consol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0B8CC-22DC-4411-B3B3-1436B630555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01 - 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6032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D60DD-2197-449B-B0D4-300D149D74C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 the first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0" y="720720"/>
            <a:ext cx="6534000" cy="36003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8BF94-7AC1-4CCD-B760-E103AD853F5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uild the first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4"/>
          <p:cNvSpPr/>
          <p:nvPr/>
        </p:nvSpPr>
        <p:spPr>
          <a:xfrm flipH="1">
            <a:off x="1971720" y="2700360"/>
            <a:ext cx="91440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5"/>
          <p:cNvSpPr/>
          <p:nvPr/>
        </p:nvSpPr>
        <p:spPr>
          <a:xfrm flipV="1">
            <a:off x="3780000" y="1254240"/>
            <a:ext cx="1979280" cy="1812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616040" y="2049480"/>
            <a:ext cx="709956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use Rebuild Project or the but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ild Project only works if you modify a source fi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having pressed the button once, Alt+B can be 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AED3F-1706-4250-8EE6-FE2C7A13AF0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351640" cy="6264360"/>
          </a:xfrm>
          <a:prstGeom prst="rect">
            <a:avLst/>
          </a:prstGeom>
          <a:ln w="0">
            <a:noFill/>
          </a:ln>
        </p:spPr>
      </p:pic>
      <p:sp>
        <p:nvSpPr>
          <p:cNvPr id="148" name="Line 4"/>
          <p:cNvSpPr/>
          <p:nvPr/>
        </p:nvSpPr>
        <p:spPr>
          <a:xfrm flipH="1">
            <a:off x="4564080" y="2133720"/>
            <a:ext cx="736560" cy="237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709080" y="1440000"/>
            <a:ext cx="420840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4928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leans the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4928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runs the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6"/>
          <p:cNvSpPr/>
          <p:nvPr/>
        </p:nvSpPr>
        <p:spPr>
          <a:xfrm flipH="1" flipV="1">
            <a:off x="2835360" y="4861080"/>
            <a:ext cx="1744560" cy="131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1619280" y="4861080"/>
            <a:ext cx="431640" cy="736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220680" y="5580000"/>
            <a:ext cx="38260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tax problem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pd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ave in the problems vie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586040" y="5950080"/>
            <a:ext cx="35899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ild and run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displayed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ADB01-3404-4334-B6F1-940122FF691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042920" y="0"/>
            <a:ext cx="810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Debug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52948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0_simplesim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1_experi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2a_exp1, (02b_exp2 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3_symbolicderivativ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4_assignment (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129E1-A476-4254-B2AA-708D0C039D4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using OM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Very recent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Run target “deps” to build depend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n run the debug targ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Note: Programs that require stdin do not work yet (Eclipse does not send EOF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You can print data structures using printAny(x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7838C-F7E4-47E9-B853-D24FF0AA36F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Modelica MDT – Eclipse Plug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Browsing of packages, classes,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building of executables;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eparate compi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yntax highligh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completion,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query support for develop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Ind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Debugger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(Prel. version for algorithmic subse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956200" y="1692360"/>
            <a:ext cx="299088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A0717-847E-46C2-A96B-3A8F45944C0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539640" y="0"/>
            <a:ext cx="860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ting the debug config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3" descr=""/>
          <p:cNvPicPr/>
          <p:nvPr/>
        </p:nvPicPr>
        <p:blipFill>
          <a:blip r:embed="rId1"/>
          <a:stretch/>
        </p:blipFill>
        <p:spPr>
          <a:xfrm>
            <a:off x="457200" y="569880"/>
            <a:ext cx="8001000" cy="5067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804A1-3004-4BAB-943E-653D7E66B22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up the debug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Group 1"/>
          <p:cNvGrpSpPr/>
          <p:nvPr/>
        </p:nvGrpSpPr>
        <p:grpSpPr>
          <a:xfrm>
            <a:off x="5028840" y="1108080"/>
            <a:ext cx="3940560" cy="1182600"/>
            <a:chOff x="5028840" y="1108080"/>
            <a:chExt cx="3940560" cy="1182600"/>
          </a:xfrm>
        </p:grpSpPr>
        <p:sp>
          <p:nvSpPr>
            <p:cNvPr id="167" name="Line 4"/>
            <p:cNvSpPr/>
            <p:nvPr/>
          </p:nvSpPr>
          <p:spPr>
            <a:xfrm flipH="1">
              <a:off x="5028840" y="1941480"/>
              <a:ext cx="1523880" cy="349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Text Box 5"/>
            <p:cNvSpPr/>
            <p:nvPr/>
          </p:nvSpPr>
          <p:spPr>
            <a:xfrm>
              <a:off x="5562360" y="1108080"/>
              <a:ext cx="3407040" cy="8254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location where you installed OpenModelic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Group 8"/>
          <p:cNvGrpSpPr/>
          <p:nvPr/>
        </p:nvGrpSpPr>
        <p:grpSpPr>
          <a:xfrm>
            <a:off x="174600" y="960480"/>
            <a:ext cx="3406680" cy="1554120"/>
            <a:chOff x="174600" y="960480"/>
            <a:chExt cx="3406680" cy="1554120"/>
          </a:xfrm>
        </p:grpSpPr>
        <p:sp>
          <p:nvSpPr>
            <p:cNvPr id="170" name="Text Box 5"/>
            <p:cNvSpPr/>
            <p:nvPr/>
          </p:nvSpPr>
          <p:spPr>
            <a:xfrm>
              <a:off x="174600" y="960480"/>
              <a:ext cx="340668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project direct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4"/>
            <p:cNvSpPr/>
            <p:nvPr/>
          </p:nvSpPr>
          <p:spPr>
            <a:xfrm>
              <a:off x="1877760" y="1424160"/>
              <a:ext cx="1475280" cy="1090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Group 11"/>
          <p:cNvGrpSpPr/>
          <p:nvPr/>
        </p:nvGrpSpPr>
        <p:grpSpPr>
          <a:xfrm>
            <a:off x="174600" y="2669760"/>
            <a:ext cx="7750080" cy="662040"/>
            <a:chOff x="174600" y="2669760"/>
            <a:chExt cx="7750080" cy="662040"/>
          </a:xfrm>
        </p:grpSpPr>
        <p:sp>
          <p:nvSpPr>
            <p:cNvPr id="173" name="Text Box 5"/>
            <p:cNvSpPr/>
            <p:nvPr/>
          </p:nvSpPr>
          <p:spPr>
            <a:xfrm>
              <a:off x="174600" y="2872080"/>
              <a:ext cx="775008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GNU debugger (not Microsoft/Apple-provided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4"/>
            <p:cNvSpPr/>
            <p:nvPr/>
          </p:nvSpPr>
          <p:spPr>
            <a:xfrm flipV="1">
              <a:off x="2851560" y="2669760"/>
              <a:ext cx="501120" cy="20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00991-42E8-41B2-A9C0-62CF946C648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 breakpoints in .mo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8" name="Line 4"/>
          <p:cNvSpPr/>
          <p:nvPr/>
        </p:nvSpPr>
        <p:spPr>
          <a:xfrm flipH="1" flipV="1">
            <a:off x="2043000" y="2916000"/>
            <a:ext cx="1548000" cy="159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411280" y="4508640"/>
            <a:ext cx="31687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click on the ruler to set break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17E03-695A-49F5-8317-BD220E9AF11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395280" y="0"/>
            <a:ext cx="874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un the debug configuration to start debug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83" name="Line 4"/>
          <p:cNvSpPr/>
          <p:nvPr/>
        </p:nvSpPr>
        <p:spPr>
          <a:xfrm flipH="1" flipV="1">
            <a:off x="963720" y="973080"/>
            <a:ext cx="1619280" cy="3176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403280" y="4149720"/>
            <a:ext cx="3384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and select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 configu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bugging will sta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0DDB1-3DC7-46F0-A5FE-BC27B1A4832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clipse will ask to switch to debugging perspe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02F9B-1397-4A7B-9E93-B8D9350F6A5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persp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91" name="Line 4"/>
          <p:cNvSpPr/>
          <p:nvPr/>
        </p:nvSpPr>
        <p:spPr>
          <a:xfrm flipV="1">
            <a:off x="1763640" y="1333440"/>
            <a:ext cx="2016360" cy="347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39640" y="4797360"/>
            <a:ext cx="316872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buttons to ste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6"/>
          <p:cNvSpPr/>
          <p:nvPr/>
        </p:nvSpPr>
        <p:spPr>
          <a:xfrm flipV="1">
            <a:off x="5219640" y="1620360"/>
            <a:ext cx="360360" cy="282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4643280" y="450864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 variables 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there is a tab with breakpoi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A2FBA-69B4-43EA-A396-D2929EB901E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ing persp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  <p:sp>
        <p:nvSpPr>
          <p:cNvPr id="198" name="Line 4"/>
          <p:cNvSpPr/>
          <p:nvPr/>
        </p:nvSpPr>
        <p:spPr>
          <a:xfrm flipV="1">
            <a:off x="4448160" y="1476000"/>
            <a:ext cx="3579840" cy="303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276720" y="4508640"/>
            <a:ext cx="35272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between Debug and Modelica Persp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A5C84-D3E7-4808-8B96-D44BC2CE91C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repeat the procedure for all exerc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02b_exp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a_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b_mod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6_adv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7_OMCAndCor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leave open only the project you are working on!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ose all the ot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2AE60-83CE-48F2-8E7C-1A4CBF4C76B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198360" y="620640"/>
            <a:ext cx="862164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65A60-930A-4145-AE64-22C30E94326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Opening vi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396720" y="620640"/>
            <a:ext cx="8352000" cy="6264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"/>
          <p:cNvPicPr/>
          <p:nvPr/>
        </p:nvPicPr>
        <p:blipFill>
          <a:blip r:embed="rId2"/>
          <a:stretch/>
        </p:blipFill>
        <p:spPr>
          <a:xfrm>
            <a:off x="5580000" y="836640"/>
            <a:ext cx="2924280" cy="5819760"/>
          </a:xfrm>
          <a:prstGeom prst="rect">
            <a:avLst/>
          </a:prstGeom>
          <a:ln w="0">
            <a:noFill/>
          </a:ln>
        </p:spPr>
      </p:pic>
      <p:sp>
        <p:nvSpPr>
          <p:cNvPr id="210" name="Line 5"/>
          <p:cNvSpPr/>
          <p:nvPr/>
        </p:nvSpPr>
        <p:spPr>
          <a:xfrm>
            <a:off x="4572000" y="2060640"/>
            <a:ext cx="100800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733400" y="5445000"/>
            <a:ext cx="38275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pen additional view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7b1c15"/>
                </a:solidFill>
                <a:latin typeface="Times New Roman"/>
              </a:rPr>
              <a:t>Window-&gt;ShowView-&gt;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A86E9-3611-43F9-B15D-94A7FB632F3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clipse and Exercise Set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Exerc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02b_exp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a_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b_mod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6_adv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7_OMCAndCor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8-11 – as samples of Prog. Lang. mode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A5D9E-6628-4A48-A439-4C77F8F98BD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25280" y="91440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Each exercise is in a different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ll exercises hav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README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- information about the exerc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– the solution of the exercise (if the exercise has some implementation assign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program.txt</a:t>
            </a:r>
            <a:r>
              <a:rPr b="1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– input program to the exercise, edit if needed (for the exercises which have an inpu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nsult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MetaModelica Programming Guid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(1.0 Draft or 2.0) and the slides if you need additional information during the exercis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Of course, feel free to ask us any type of questions, it is faster and bett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540F4-DF42-428C-B94B-FB5386FDFA8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1_experi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Const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functions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Function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o display the constants defined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Main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Functions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A5B6F-5C2C-4AEB-8847-ED904D1FC10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a_exp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will add new constructs to the exp1 language and deal with their evalu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- add new constructs to the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 power operator   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(^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 factorial operat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(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Exp1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No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parser/lexer are ready, but give parser errors for the new operators until they are added 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Exp1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2680C-B028-449D-B44A-22D87FBFC65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b_exp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model the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1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language using different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tre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xplore th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2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 and compare it with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1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28562-07CD-470E-BFDE-C42863446BA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3_symbolicderiv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rules to derive ‘-’, ‘*’, sine, cosine and power expr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rules to simplify ‘-’, sine, cosine and power expr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  <a:ea typeface="DejaVu Sans"/>
              </a:rPr>
              <a:t>SymbolicDerivative.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CAD47-E174-450D-9F1C-8F8DD46744E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4_assig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assignments present in the current program before the actual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environment after it was augmented with the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  <a:ea typeface="DejaVu Sans"/>
              </a:rPr>
              <a:t>Assignment.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E3AA1-B51F-4BB7-BEB3-FED3D52BA29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a_assigntwo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a new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String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ype which can hold only integers as strings to the current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Exp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n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cases to evaluate expressions/assignments of the form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"2" + 1 + "1" + 1.0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i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eval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AssignTwoType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108BC-04EF-4763-A88C-2534D9E3B3D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b_modassigntwo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structure your code within different pack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e code from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05a_assigntwotyp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s now split over 4 pack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ompare the 05a/b proj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85621-021F-4013-AD1E-C6012A05CF3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polymorphic 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const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higher order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function that orders a list of any ty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function has as input a list and a compare function between the objects of that lis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the comparison functions f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Integers</a:t>
            </a:r>
            <a:r>
              <a:rPr b="0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,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String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Real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est your function o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int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74650-59C5-43DB-A6ED-F758E3A2BB3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map function that applies a function over a list and returns a new list with the resul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three functions that transform fro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integer to re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integer to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real to str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Use your map function and the two transformation functions to transform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intLis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o a list of reals and a list of string, then apply the ordering function from Assignment 1 on the newly created l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D8A29-5AD3-4FA2-A2E8-83CD01A5998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ed Exercises in this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6032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1BA2B-CB2C-4E08-A25E-6EA18073646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map function that applies a print function over a list (of Strings) and prints the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Use the transformer functions from real-&gt;string and integer-&gt;string from Assignment 2 to transform the real list or the integer list to a string list for prin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C07C8-F085-40AD-950B-6487503E801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Overvie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213159"/>
                </a:solidFill>
                <a:latin typeface="Trebuchet MS"/>
              </a:rPr>
              <a:t>We are Switching to OMC Overview now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2B806-593F-4F9A-93D8-BBDDC5BACD9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-46440"/>
            <a:ext cx="746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Development Toolkit (OMDev)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MDev is a pre-packaged pre-compiled kit containing all tools needed for OpenModelica development.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lnSpc>
                <a:spcPct val="8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Just unpack and set some environment variables. (Windows)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lnSpc>
                <a:spcPct val="8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apt-get build-dep openmodelica (Ubuntu/Debian Linux)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lnSpc>
                <a:spcPct val="8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ort  install depends:openmodelica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MetaModelica Compiler (MMC) – for developing OMC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penModelica Compiler (OMC) – for browsing support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Eclipse plugin MDT – (Modelica Development Tooling), e.g. for compiler (OMC) development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re-compiled Corba (MICO or omniORB) for tool communication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ackaged Gnu compiler (GCC; Mingw version for Windows)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Emacs mode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nline (web) Subversion for version handling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nline (web) Codebeamer for bug reporting and management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Automatic regression testing using a test suite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Unit testing using the bootstrapped OpenModelica Compiler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Interactive MetaModelica debugger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9B7BA-A833-475A-80EB-D47ACA0E065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250920" y="-79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Environment Archite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0" y="26146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6" name="Object 6"/>
          <p:cNvGraphicFramePr/>
          <p:nvPr/>
        </p:nvGraphicFramePr>
        <p:xfrm>
          <a:off x="546120" y="1509840"/>
          <a:ext cx="7918560" cy="39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09840"/>
                    <a:ext cx="7918560" cy="39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893F8-F682-4087-AD59-102C36071AF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lient-Server Archite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Object 3"/>
          <p:cNvGraphicFramePr/>
          <p:nvPr/>
        </p:nvGraphicFramePr>
        <p:xfrm>
          <a:off x="1233360" y="1201680"/>
          <a:ext cx="657072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1201680"/>
                    <a:ext cx="657072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AFE88-5765-4ADD-B0A9-43B22F20A5B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leased in OpenModelica 1.7.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Compiler/Interpreter – OMC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teractive session handler – OMSh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Notebook with DrModelica and DrControl –  OMNote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Eclipse plugin MD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MEdit connection 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MetaModelica Debug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New version in OpenModelica 1.8.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DFD79-1C6C-459F-8B45-6DB0637FEE3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ompiler/Interpr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03040" y="1125360"/>
            <a:ext cx="876312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OpenModelica 1.7.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Currently implemented in 194 000 lines of MetaModelica (excl. generated code, external C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Includes code generation, BLT-transformation, index reduction, connection to DASSL, etc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Most of the Modelica 3.1 language including classes, functions, inheritance, modifications, import, etc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Hybrid/Discrete event suppor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173DC-B403-4871-A73A-316CD82EB39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rba Client-Server A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304920" y="914400"/>
            <a:ext cx="71247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imple text-based (string) communication in Modelica Synt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PI supporting model structure query and up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635040" y="2803680"/>
            <a:ext cx="7149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Call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fulfill the normal Modelica function call syntax.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veModel("MyResistorFile.mo",MyResist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save the model MyResistor into the file “MyResistorFile.mo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reating new models it is most practical to send a model, e.g.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el Foo   end Foo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e.g.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or Port   end Por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E736D-BB3A-4B02-8DEF-0619CAE9040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me of the Corba API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03040" y="765000"/>
          <a:ext cx="8510760" cy="24054120"/>
        </p:xfrm>
        <a:graphic>
          <a:graphicData uri="http://schemas.openxmlformats.org/drawingml/2006/table">
            <a:tbl>
              <a:tblPr/>
              <a:tblGrid>
                <a:gridCol w="3237120"/>
                <a:gridCol w="5273640"/>
              </a:tblGrid>
              <a:tr h="4921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saveModel(A1&lt;string&gt;,A2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343080" indent="-335160" algn="just">
                        <a:lnSpc>
                          <a:spcPct val="68000"/>
                        </a:lnSpc>
                        <a:tabLst>
                          <a:tab algn="l" pos="0"/>
                          <a:tab algn="l" pos="343080"/>
                          <a:tab algn="r" pos="3392640"/>
                          <a:tab algn="l" pos="3649680"/>
                          <a:tab algn="l" pos="4564080"/>
                          <a:tab algn="l" pos="5478480"/>
                          <a:tab algn="l" pos="6392880"/>
                          <a:tab algn="l" pos="7307280"/>
                          <a:tab algn="l" pos="8221680"/>
                          <a:tab algn="l" pos="9136080"/>
                          <a:tab algn="l" pos="10050480"/>
                          <a:tab algn="l" pos="10326600"/>
                          <a:tab algn="l" pos="1077588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Saves the model (A2) in a file given by a string (A1). This call is also in typed API.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File(A1&lt;string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all models in the file. Also in typed API. Returns list of names of top level classes in the loaded file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Model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the model (A1) by looking up the correct file to load i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$MODELICAPATH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Loads all models in that file into the symbol table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las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lass from the symbol tabl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mponent(A1&lt;ident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a component (A1) within a class (A2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lassAnnotation(A1&lt;cref&gt;, 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nnotation given by A2( in the form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 classmod(...)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the model definition referenced by A1. Should be used to add Icon Diagram and Documentation annotation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343080" indent="-154080" algn="just">
                        <a:lnSpc>
                          <a:spcPct val="6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of the component declarations within class A1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154080" algn="just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{Atype,varidA,”commentA”},{Btype,varidB,”commentB”}, {...}}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Annotations(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...}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f all annotations of all components in A1, in the same order as the components, one annotation per component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mponents in a class, e.g retur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2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there are 2 component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belonging class, component name and type name of the nth component of a clas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A.B.C,R2,Resistor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here the first component is numbered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flattened annotation record of the nth component  (A2) (the first is has no 1) within class/component A1. Consists of a comma separated string of 15 values, see Annotations in Section 2.4.4 below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false,10,30,...”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Modification(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?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modification of the nth component  (A2) where the first  has no 1) of class/component A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nheritance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inherited classes of a clas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InheritedClass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type name of the nth inherited class of a class. The first class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ion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nnections in the mode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, as a comma separated pair of connector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R1.n,R2.p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 annotation as comma separated list of values of a flattened record, see Annotations in Section 2.4.4  below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nnection(A1&lt;cref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 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connectio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connect(A1,A2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model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ith annotation given by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nnectio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onnection connect(A1,A2) in class given by A3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Equation(A1&lt;cref&gt;,A2&lt;expr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expr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the equation A2=A3 to the model named by A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Equation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equations (as a string) in the model named A1. (This includes connection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Equation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(A2) equation of the model named by A1.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der(x)=-1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r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connect(A.b,C.a)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NthEqua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nth (A2) equation in the model named by A1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or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connectors (as a string) of a class A1. NOTE: partial code instantiation of inheritance is performed before investigating the connector count, in order also to get the inherited connector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 of the nth connector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n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connector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05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Ic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icon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DiagramAnnotation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diagram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conAnnota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Icon Annotation of the class named by A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DiagramAnnota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Diagram annotation of the class named by A1. NOTE: Since the Diagram annotations can be found in base classes a partial code instantiation is performed that flattens the inheritance hierarchy in order to find all annotation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s in a class/package named by A1 as a list, e.g.: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Electrical,Blocks,Mechanics, Constants,Math,SIunits}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 definitions in the global scop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tions in a class/packag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itions in the global scop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Restric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kind of restricted class of &lt;cref&gt;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model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connector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unction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packag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etc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Typ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imitiv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of primitive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nector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connecto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Model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Record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recor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Block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block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Func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function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ckag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las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lass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rameter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paramete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sta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onstant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otected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protecte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Class(A1&lt;cref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Tabl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Model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Packag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08B73-05B7-45F6-BDBC-5212862D94C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lat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0492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OpenModelica GUI tools (OMShell, OMNotebook, ...) are developed on top of the Qt4 GUI library, portable between Windows, Linux, M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Both compilers (OMC, MMC) are portable between the three platforms and compiled nigh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Windows – main release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Linux – main development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Mac – avail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C21DD-DA98-44B7-8BBA-E1CCAF7EF4F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Switching Work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04640" y="608040"/>
            <a:ext cx="8332920" cy="624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4371840" cy="2324160"/>
          </a:xfrm>
          <a:prstGeom prst="rect">
            <a:avLst/>
          </a:prstGeom>
          <a:ln w="0">
            <a:noFill/>
          </a:ln>
        </p:spPr>
      </p:pic>
      <p:sp>
        <p:nvSpPr>
          <p:cNvPr id="107" name="Line 5"/>
          <p:cNvSpPr/>
          <p:nvPr/>
        </p:nvSpPr>
        <p:spPr>
          <a:xfrm>
            <a:off x="2484360" y="3429000"/>
            <a:ext cx="151128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265200" y="1800360"/>
            <a:ext cx="465516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lean work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import many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684F4-87E7-410E-8374-DDB38413822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Switching to Java Persp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31708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634FC-8D92-46D1-A71F-622CEAD6B6B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7_OMCAndCor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send commands to the OMC Compiler (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omc.ex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) via COR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OMCProxy.java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has functionality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tarting the omc process if is not already sta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starting is a bit different for Windows/Lin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nding commands to O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logging fac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f you need clients in C++ or Python che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DejaVu Sans"/>
                <a:hlinkClick r:id="rId1"/>
              </a:rPr>
              <a:t>http://www.ida.liu.se/labs/pelab/modelica/OpenModelica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developer 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ADF6B-8335-4748-8D71-21F67DBE3DD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468360" y="627120"/>
            <a:ext cx="8307360" cy="6230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"/>
          <p:cNvPicPr/>
          <p:nvPr/>
        </p:nvPicPr>
        <p:blipFill>
          <a:blip r:embed="rId2"/>
          <a:stretch/>
        </p:blipFill>
        <p:spPr>
          <a:xfrm>
            <a:off x="0" y="209556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"/>
          <p:cNvPicPr/>
          <p:nvPr/>
        </p:nvPicPr>
        <p:blipFill>
          <a:blip r:embed="rId3"/>
          <a:stretch/>
        </p:blipFill>
        <p:spPr>
          <a:xfrm>
            <a:off x="4381560" y="209556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289" name="Oval 6"/>
          <p:cNvSpPr/>
          <p:nvPr/>
        </p:nvSpPr>
        <p:spPr>
          <a:xfrm>
            <a:off x="2266920" y="6308640"/>
            <a:ext cx="936720" cy="549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7"/>
          <p:cNvSpPr/>
          <p:nvPr/>
        </p:nvSpPr>
        <p:spPr>
          <a:xfrm flipV="1">
            <a:off x="3274920" y="3492000"/>
            <a:ext cx="2376720" cy="282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8"/>
          <p:cNvSpPr/>
          <p:nvPr/>
        </p:nvSpPr>
        <p:spPr>
          <a:xfrm>
            <a:off x="1258920" y="5013360"/>
            <a:ext cx="93672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9"/>
          <p:cNvSpPr/>
          <p:nvPr/>
        </p:nvSpPr>
        <p:spPr>
          <a:xfrm flipH="1">
            <a:off x="1108080" y="1125360"/>
            <a:ext cx="2967120" cy="352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F5DE2-0DCE-423B-BB41-C4C08C38092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ank you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dministrative Ques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7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  <a:ea typeface="DejaVu Sans"/>
              </a:rPr>
              <a:t>What would you like to implement tomorr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7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  <a:ea typeface="DejaVu Sans"/>
              </a:rPr>
              <a:t>in the OpenModelica Compil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47880"/>
            <a:ext cx="74674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mport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7920" indent="-27792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le → Impor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General → Existing projects into workspac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2340000"/>
            <a:ext cx="9144000" cy="39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5B9DE-38AC-4513-B559-7E86AEC8F80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 and Open all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ED560-CF21-4297-866E-181C06D971B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on't build projects automat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123840" y="720720"/>
            <a:ext cx="887724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07734-D6A2-43CF-87CE-021B42A0AC0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fresh all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2:12:12Z</dcterms:created>
  <dc:creator>Adrian Pop [adrpo@ida.liu.se, http://www.ida.liu.se/~adrpo]</dc:creator>
  <dc:description/>
  <dc:language>en-US</dc:language>
  <cp:lastModifiedBy>Martin Sjolund</cp:lastModifiedBy>
  <cp:lastPrinted>2001-06-05T14:43:50Z</cp:lastPrinted>
  <dcterms:modified xsi:type="dcterms:W3CDTF">2011-09-17T10:39:23Z</dcterms:modified>
  <cp:revision>69</cp:revision>
  <dc:subject>MetaModelica</dc:subject>
  <dc:title>MetaModelica Tutorial and Exercises</dc:title>
</cp:coreProperties>
</file>